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59A-512F-4DC9-A2BA-AA3A9489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B3E-CE67-4F34-ADAB-10E59C61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751-7308-402C-BC59-87E4A910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608-DA36-41EA-9863-1AD96A08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D78D-D463-4B0A-B13D-71CD227D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48F6-7FAB-4038-9F23-A38EF839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DE0-6C6B-400B-B593-B636A263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FEC0-AC0D-4FD2-8CA6-3B2C794A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D56A-0047-4003-A160-5A8568F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F9C-85FF-4EF9-B2EE-6A830F8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485-13BE-4F28-808E-CBAE719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896-C86D-4379-AAF6-8ACE47C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35A-D9FA-4A2F-BA13-10CA717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BD4-7FAA-42F9-B70D-95E5AA2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A01-CD0A-45F3-A5D3-03CD572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66F1-41DD-42FF-B9B4-1D2EB486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8986-0F7D-45AC-B106-EA83A5EF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B4E-B3A4-4687-B7F5-0C88E97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A35-8FDA-41E3-9B5E-59F4A4F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769-AB1F-4E1E-980C-49606368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49E-EE46-4A45-956D-966868D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A7F-37E1-44CF-9D08-DAC4EE7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917-3F5D-46B1-9EB3-861F91B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587-9622-4C88-9D48-BF2ED47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15B4-AB3B-49BE-98C6-8CE7F5F241B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1537-2132-4311-A8D2-9F1FBDD8D24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pa.gov/ozone/science/hole/holeanim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 4. Ozone depletion in stratosphere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scribe the formation and depletion of ozone in the stratosphere by natural processes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 the ozone-depleting pollutants and their sources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cuss the alternatives to CFCs in terms of their properties.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anthropogenic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5345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equation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otodissociation: C- Cl is weakest bond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Cl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CClF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+     Cl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talytic depletion: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l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3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Cl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+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 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l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+   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Cl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equation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talytic depletion: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3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N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+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 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+   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N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When added: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2a3d7a"/>
                </a:solidFill>
                <a:latin typeface="Arial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  +   O</a:t>
            </a:r>
            <a:r>
              <a:rPr b="0" lang="en-US" sz="3200" spc="-1" strike="noStrike">
                <a:solidFill>
                  <a:srgbClr val="2a3d7a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baseline="-30000">
                <a:solidFill>
                  <a:srgbClr val="2a3d7a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2a3d7a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   2O</a:t>
            </a:r>
            <a:r>
              <a:rPr b="0" lang="en-US" sz="3200" spc="-1" strike="noStrike" baseline="-30000">
                <a:solidFill>
                  <a:srgbClr val="2a3d7a"/>
                </a:solidFill>
                <a:latin typeface="Arial"/>
                <a:ea typeface="Times New Roman"/>
              </a:rPr>
              <a:t>2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FCs alternative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ust have similar positive properties but without the production of Cl radicals or any other radical than can cause it.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dvantages of these alternatives:  reduced production of Cl</a:t>
            </a:r>
            <a:r>
              <a:rPr b="0" lang="en-US" sz="24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free radical.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se alternatives should be/have: low boiling points, non-toxic, non-reactive, non-flammable and not acts as greenhouse gases.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lternatives to CFCs</a:t>
            </a:r>
            <a:endParaRPr b="0" lang="en-US" sz="40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yd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such as propane and 2- methyl propane as refrigerant coolants: no halogens; more flammable + also greenhouse effect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luo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stronger C- F bond; greenhouse effect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ydrochlorofluo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H makes it more stable but still has C- Cl bonds; fewer halogen free radicals released – also greenhouse gas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ydrofluo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stronger C-F bond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: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alternatives to CFCs</a:t>
            </a:r>
            <a:endParaRPr b="0" lang="en-US" sz="36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ternatives have all useful properties of CFS’s but some issues: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pane and 2- methyl propane as refrigerant coolants: greenhouse gases/flammabl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luorocarbons: greenhouse gases but not flammabl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drochlorofluorocarbons: still some depletion as has Cl, and also greenhouse gases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ry pale bluish gas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ry powerful oxidising agen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ungent smelling odor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bsorbs UV ligh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detectio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[O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in a sample of air can be measured using UV spectroscopy; the more UV is absorbed the higher [O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upper stratosphere; 15 to 45 km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Two functions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bsorbs UV – 290 – 320 nm; UV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uses sunburn, skin cancer, eye cataracts (=clouding of the eye – can lead to blindness)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duces plant growth as O</a:t>
            </a:r>
            <a:r>
              <a:rPr b="0" lang="en-US" sz="20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destroys apparatus for photosynthesis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 cause genetic mutations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uses loss of plankton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Angsana New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zone production releases energy which produces an increase in temperature in stratosphere which gives it stability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natural cycle (stratosphere)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mation of ozone: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  <a:ea typeface="Arial"/>
              </a:rPr>
              <a:t>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uv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+   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    (uv = 242 nm)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al depletion of ozone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2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uv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 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 (uv = 290 – 320 nm)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rate of formation = equal to rate of deple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= steady stat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both types of reactions are slow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evidence for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Antartica, autumn 2003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ozone hole = area having less than 220 Dobson units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if 100 DU of ozone were brought to the Earth's surface, it would form a layer 1 millimeter thick)</a:t>
            </a:r>
            <a:endParaRPr b="0" lang="en-US" sz="1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ngsana New"/>
            </a:endParaRPr>
          </a:p>
        </p:txBody>
      </p:sp>
      <p:pic>
        <p:nvPicPr>
          <p:cNvPr id="101" name="Picture 6" descr="[Animation of the 2000 Ozone Hole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05120"/>
            <a:ext cx="3695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evidence of depletion 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depletion     </a:t>
            </a: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epa.gov/ozone/science/hole/size.html</a:t>
            </a:r>
            <a:endParaRPr b="0" lang="en-US" sz="1200" spc="-1" strike="noStrike">
              <a:solidFill>
                <a:srgbClr val="2a3d7a"/>
              </a:solidFill>
              <a:latin typeface="Angsana New"/>
            </a:endParaRPr>
          </a:p>
        </p:txBody>
      </p:sp>
      <p:grpSp>
        <p:nvGrpSpPr>
          <p:cNvPr id="105" name="Group 20"/>
          <p:cNvGrpSpPr/>
          <p:nvPr/>
        </p:nvGrpSpPr>
        <p:grpSpPr>
          <a:xfrm>
            <a:off x="2820960" y="1795320"/>
            <a:ext cx="3502080" cy="3186000"/>
            <a:chOff x="2820960" y="1795320"/>
            <a:chExt cx="3502080" cy="3186000"/>
          </a:xfrm>
        </p:grpSpPr>
        <p:sp>
          <p:nvSpPr>
            <p:cNvPr id="106" name="Rectangle 17"/>
            <p:cNvSpPr/>
            <p:nvPr/>
          </p:nvSpPr>
          <p:spPr>
            <a:xfrm>
              <a:off x="2820960" y="1795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2820960" y="1795320"/>
              <a:ext cx="350208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  </a:t>
              </a:r>
              <a:r>
                <a:rPr b="0" lang="en-US" sz="203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8" name="Picture 19" descr="[Graph of Ozone Minima vs. Year]"/>
          <p:cNvPicPr/>
          <p:nvPr/>
        </p:nvPicPr>
        <p:blipFill>
          <a:blip r:embed="rId1"/>
          <a:stretch/>
        </p:blipFill>
        <p:spPr>
          <a:xfrm>
            <a:off x="533520" y="2209680"/>
            <a:ext cx="274320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4"/>
          <p:cNvGrpSpPr/>
          <p:nvPr/>
        </p:nvGrpSpPr>
        <p:grpSpPr>
          <a:xfrm>
            <a:off x="2820960" y="1795320"/>
            <a:ext cx="3502080" cy="3186000"/>
            <a:chOff x="2820960" y="1795320"/>
            <a:chExt cx="3502080" cy="3186000"/>
          </a:xfrm>
        </p:grpSpPr>
        <p:sp>
          <p:nvSpPr>
            <p:cNvPr id="110" name="Rectangle 21"/>
            <p:cNvSpPr/>
            <p:nvPr/>
          </p:nvSpPr>
          <p:spPr>
            <a:xfrm>
              <a:off x="2820960" y="1795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2820960" y="1795320"/>
              <a:ext cx="350208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  </a:t>
              </a:r>
              <a:r>
                <a:rPr b="0" lang="en-US" sz="203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12" name="Picture 23" descr="[Graph of Annual Ozone Variation]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32227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8"/>
          <p:cNvGrpSpPr/>
          <p:nvPr/>
        </p:nvGrpSpPr>
        <p:grpSpPr>
          <a:xfrm>
            <a:off x="2820960" y="1795320"/>
            <a:ext cx="3502080" cy="3186000"/>
            <a:chOff x="2820960" y="1795320"/>
            <a:chExt cx="3502080" cy="3186000"/>
          </a:xfrm>
        </p:grpSpPr>
        <p:sp>
          <p:nvSpPr>
            <p:cNvPr id="114" name="Rectangle 25"/>
            <p:cNvSpPr/>
            <p:nvPr/>
          </p:nvSpPr>
          <p:spPr>
            <a:xfrm>
              <a:off x="2820960" y="1795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2820960" y="1795320"/>
              <a:ext cx="350208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  </a:t>
              </a:r>
              <a:r>
                <a:rPr b="0" lang="en-US" sz="203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16" name="Picture 27" descr="[Graph of Ozone Hole Area vs. Year]"/>
          <p:cNvPicPr/>
          <p:nvPr/>
        </p:nvPicPr>
        <p:blipFill>
          <a:blip r:embed="rId3"/>
          <a:stretch/>
        </p:blipFill>
        <p:spPr>
          <a:xfrm>
            <a:off x="6477120" y="2743200"/>
            <a:ext cx="251460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man-made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itrogen oxides: sources: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bustion, airplanes, nitrogenous fertilisers</a:t>
            </a: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FCs = chlorofluorocarbon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sed in: refrigerators, air conditioners, blowing agents, solvents, dry cleaning agents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hemically stable, low toxicity, volatile, insulating, fire suppressive, low cost 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d up in stratosphere as they are not broken dow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free radical produced by uv - photodissocia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acts as catalyst in ozone depletion – catalytic deple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hloroFluoroCarbons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seful compound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emically stable; long atmospheric life-tim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w toxicity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w cost to manufactur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olatile liquid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od solvent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sulating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re-oppressive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2:17:18Z</dcterms:created>
  <dc:creator>nvandecasteele</dc:creator>
  <dc:description/>
  <dc:language>en-US</dc:language>
  <cp:lastModifiedBy>Client Admin</cp:lastModifiedBy>
  <cp:lastPrinted>2013-02-26T01:33:26Z</cp:lastPrinted>
  <dcterms:modified xsi:type="dcterms:W3CDTF">2013-02-26T01:34:19Z</dcterms:modified>
  <cp:revision>65</cp:revision>
  <dc:subject/>
  <dc:title>Environmnetal Chemistry </dc:title>
</cp:coreProperties>
</file>